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198-ACC6-449A-9777-6E5A7F19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5B0-BAB0-4E09-B5E8-116D48A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91F-5945-4092-AD9D-A0A0BD29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6CE-6476-48C4-9E90-495D4442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C62-A2F4-4A6E-9D32-49461931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EE5-69C6-44E7-A29C-C480E343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B21-E679-4BB5-BA17-A04F0E4A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796-9A05-4795-85D6-217AAE1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9D8-C187-4483-A386-7F5B515B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9B0-5192-4312-9F2A-BD107BF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DE0-BC12-4287-930A-9DB60A3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045-DF87-4834-A283-83562FA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C768-863D-493C-9ECE-4C29AFECA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7600" cy="139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110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76920" y="16002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848360" cy="5297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2514600"/>
            <a:ext cx="6094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352680"/>
            <a:ext cx="6098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514600"/>
            <a:ext cx="8380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35268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2438280"/>
            <a:ext cx="609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352680"/>
            <a:ext cx="6094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4191120"/>
            <a:ext cx="2362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117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059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001000" cy="102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4582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7:18Z</dcterms:created>
  <dc:creator>Graham</dc:creator>
  <dc:description/>
  <dc:language>en-US</dc:language>
  <cp:lastModifiedBy>Graham</cp:lastModifiedBy>
  <dcterms:modified xsi:type="dcterms:W3CDTF">2012-09-30T18:37:22Z</dcterms:modified>
  <cp:revision>1</cp:revision>
  <dc:subject/>
  <dc:title>Slide 1</dc:title>
</cp:coreProperties>
</file>